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C3C7-AFD5-4949-A426-281D06B9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5167-B9FF-44ED-A8B9-C6BF8631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3DD6-2553-47B2-906E-FDC6F9EA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429A-6A84-4D6B-B1D9-97372E22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E41F-FEEC-4405-8639-A2745440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8D20-F659-49FC-92B7-B96F3126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342B-D4DB-4363-8D0E-1ADA4F83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F5E5-B700-4E92-80F4-1BF250CF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9814-B284-41F2-AC51-820AA0DD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C878-462D-4B0E-9895-448921DD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315C-07DD-4943-BFB5-E386BEAF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09F2-B799-45E2-BFEC-16A18AAF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304A-613A-4B4B-94A9-9B20614AC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are ortholo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True homology of molecular sequences, </a:t>
            </a:r>
            <a:r>
              <a:rPr b="0" i="1" lang="en-US" sz="2000" spc="-1" strike="noStrike">
                <a:solidFill>
                  <a:srgbClr val="80004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 descended </a:t>
            </a:r>
            <a:r>
              <a:rPr b="0" i="1" lang="en-US" sz="2000" spc="-1" strike="noStrike">
                <a:solidFill>
                  <a:srgbClr val="800040"/>
                </a:solidFill>
                <a:latin typeface="Arial"/>
              </a:rPr>
              <a:t>in toto</a:t>
            </a: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 from the same ancestral seque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Orthologous sequences exist in only one copy per organism, and can accurately reflect the phylogenetic relationships of species (cf. paralogy, plerology, xenology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www.science.uts.edu.au/sasb/glossary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6069240" cy="78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1676520"/>
            <a:ext cx="8610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Species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                  Number of Genes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                 HomoloG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input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            grouped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     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.sapie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22,5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,722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16,4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muscul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23,8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,676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17,7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norvegic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20,90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,410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15,9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melanogaster      12,69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8,499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7,5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gambia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11,9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8,451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7,4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eleg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18,76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6,377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5,2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pom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4,94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3,625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3,3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cerevisia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5,86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3,613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3,1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.cras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10,06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6,149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6,0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gris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11,10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6,325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6,0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thaliana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26,3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8,049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4,7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falcipar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5,20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1,779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1,5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200400" y="-6629400"/>
            <a:ext cx="15544800" cy="20104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6300720" cy="81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777384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do we identify orthologs??</a:t>
            </a:r>
            <a:br>
              <a:rPr sz="3200"/>
            </a:br>
            <a:br>
              <a:rPr sz="32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A.  “Near” Relativ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14240" y="2209680"/>
            <a:ext cx="4724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40"/>
                </a:solidFill>
                <a:latin typeface="Arial"/>
              </a:rPr>
              <a:t>Sequence 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40"/>
                </a:solidFill>
                <a:latin typeface="Arial"/>
              </a:rPr>
              <a:t>Reciprocal Best H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40"/>
                </a:solidFill>
                <a:latin typeface="Arial"/>
              </a:rPr>
              <a:t>Conserved Neighbo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40"/>
                </a:solidFill>
                <a:latin typeface="Arial"/>
              </a:rPr>
              <a:t>Within Syntenic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do we identify orthologs??</a:t>
            </a:r>
            <a:br>
              <a:rPr sz="3200"/>
            </a:br>
            <a:br>
              <a:rPr sz="32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B.  “Far” Relativ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14240" y="2209680"/>
            <a:ext cx="4724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40"/>
                </a:solidFill>
                <a:latin typeface="Arial"/>
              </a:rPr>
              <a:t>Sequence 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40"/>
                </a:solidFill>
                <a:latin typeface="Arial"/>
              </a:rPr>
              <a:t>Reciprocal Best H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y is it hard to identify orthologs?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40"/>
                </a:solidFill>
                <a:latin typeface="Arial"/>
              </a:rPr>
              <a:t>Quality of Genome 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WGS assemblies have holes; ortholog to query sequence may live in one such h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WGS assemblies have undetected </a:t>
            </a:r>
            <a:r>
              <a:rPr b="0" i="1" lang="en-US" sz="2000" spc="-1" strike="noStrike" u="sng">
                <a:solidFill>
                  <a:srgbClr val="800040"/>
                </a:solidFill>
                <a:uFillTx/>
                <a:latin typeface="Arial"/>
              </a:rPr>
              <a:t>mis</a:t>
            </a: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assemblies; ortholog tests may fail because there is apparently not a 1:1 mat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WGS assemblies tend to collapse near-identical clus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8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40"/>
                </a:solidFill>
                <a:latin typeface="Arial"/>
              </a:rPr>
              <a:t>Quality of Ann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Ortholog of query sequence may not have been annotated (at all / correctl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Creating gene models in near-identical gene clusters can be challeng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lities of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pansion and contractions of repeated gene fami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ultiple transcripts per “gen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seudogenes vs. true 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058480" y="1905120"/>
            <a:ext cx="4685400" cy="3050280"/>
            <a:chOff x="2058480" y="1905120"/>
            <a:chExt cx="4685400" cy="3050280"/>
          </a:xfrm>
        </p:grpSpPr>
        <p:grpSp>
          <p:nvGrpSpPr>
            <p:cNvPr id="50" name=""/>
            <p:cNvGrpSpPr/>
            <p:nvPr/>
          </p:nvGrpSpPr>
          <p:grpSpPr>
            <a:xfrm>
              <a:off x="2058480" y="1905120"/>
              <a:ext cx="4685400" cy="2666520"/>
              <a:chOff x="2058480" y="1905120"/>
              <a:chExt cx="4685400" cy="266652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2286000" y="2438280"/>
                <a:ext cx="4266720" cy="2133360"/>
                <a:chOff x="2286000" y="2438280"/>
                <a:chExt cx="4266720" cy="213336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2286000" y="2438280"/>
                  <a:ext cx="2133360" cy="21333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flipH="1">
                  <a:off x="4419000" y="2438280"/>
                  <a:ext cx="2133720" cy="21333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962160" y="2438280"/>
                  <a:ext cx="1295640" cy="12952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" name=""/>
              <p:cNvSpPr/>
              <p:nvPr/>
            </p:nvSpPr>
            <p:spPr>
              <a:xfrm>
                <a:off x="2058480" y="190512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658680" y="190512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325560" y="190512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4191840" y="44956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905120" y="2286000"/>
            <a:ext cx="4267080" cy="2133360"/>
            <a:chOff x="1905120" y="2286000"/>
            <a:chExt cx="4267080" cy="2133360"/>
          </a:xfrm>
        </p:grpSpPr>
        <p:sp>
          <p:nvSpPr>
            <p:cNvPr id="60" name=""/>
            <p:cNvSpPr/>
            <p:nvPr/>
          </p:nvSpPr>
          <p:spPr>
            <a:xfrm>
              <a:off x="1905120" y="2286000"/>
              <a:ext cx="2133720" cy="213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038840" y="2286000"/>
              <a:ext cx="2133360" cy="213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81640" y="2286000"/>
              <a:ext cx="129528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048120" y="1752480"/>
            <a:ext cx="3831840" cy="2136240"/>
            <a:chOff x="3048120" y="1752480"/>
            <a:chExt cx="3831840" cy="2136240"/>
          </a:xfrm>
        </p:grpSpPr>
        <p:sp>
          <p:nvSpPr>
            <p:cNvPr id="64" name=""/>
            <p:cNvSpPr/>
            <p:nvPr/>
          </p:nvSpPr>
          <p:spPr>
            <a:xfrm>
              <a:off x="3048120" y="175248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40"/>
                  </a:solidFill>
                  <a:latin typeface="Arial"/>
                </a:rPr>
                <a:t>G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15000" y="175248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40"/>
                  </a:solidFill>
                  <a:latin typeface="Arial"/>
                </a:rPr>
                <a:t>G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53240" y="342900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40"/>
                  </a:solidFill>
                  <a:latin typeface="Arial"/>
                </a:rPr>
                <a:t>G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601280" y="1752480"/>
            <a:ext cx="2628360" cy="3126600"/>
            <a:chOff x="1601280" y="1752480"/>
            <a:chExt cx="2628360" cy="3126600"/>
          </a:xfrm>
        </p:grpSpPr>
        <p:sp>
          <p:nvSpPr>
            <p:cNvPr id="68" name=""/>
            <p:cNvSpPr/>
            <p:nvPr/>
          </p:nvSpPr>
          <p:spPr>
            <a:xfrm>
              <a:off x="1601280" y="1752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11320" y="44193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486400" y="1600200"/>
            <a:ext cx="11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666880" y="1600200"/>
            <a:ext cx="3222360" cy="2136240"/>
            <a:chOff x="2666880" y="1600200"/>
            <a:chExt cx="3222360" cy="2136240"/>
          </a:xfrm>
        </p:grpSpPr>
        <p:sp>
          <p:nvSpPr>
            <p:cNvPr id="72" name=""/>
            <p:cNvSpPr/>
            <p:nvPr/>
          </p:nvSpPr>
          <p:spPr>
            <a:xfrm>
              <a:off x="2666880" y="160020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40"/>
                  </a:solidFill>
                  <a:latin typeface="Arial"/>
                </a:rPr>
                <a:t>G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24280" y="327672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40"/>
                  </a:solidFill>
                  <a:latin typeface="Arial"/>
                </a:rPr>
                <a:t>G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676520" y="2133720"/>
            <a:ext cx="4266720" cy="2133360"/>
            <a:chOff x="1676520" y="2133720"/>
            <a:chExt cx="4266720" cy="2133360"/>
          </a:xfrm>
        </p:grpSpPr>
        <p:sp>
          <p:nvSpPr>
            <p:cNvPr id="75" name=""/>
            <p:cNvSpPr/>
            <p:nvPr/>
          </p:nvSpPr>
          <p:spPr>
            <a:xfrm>
              <a:off x="1676520" y="2133720"/>
              <a:ext cx="2133360" cy="213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3809520" y="2133720"/>
              <a:ext cx="2133720" cy="213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52680" y="2133720"/>
              <a:ext cx="129564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2133720"/>
              <a:ext cx="60984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5409000" y="2590920"/>
            <a:ext cx="17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40"/>
                </a:solidFill>
                <a:latin typeface="Arial"/>
              </a:rPr>
              <a:t>G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1600200"/>
            <a:ext cx="11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40"/>
                </a:solidFill>
                <a:latin typeface="Arial"/>
              </a:rPr>
              <a:t>G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449000" y="1600200"/>
            <a:ext cx="2551680" cy="3202920"/>
            <a:chOff x="1449000" y="1600200"/>
            <a:chExt cx="2551680" cy="3202920"/>
          </a:xfrm>
        </p:grpSpPr>
        <p:sp>
          <p:nvSpPr>
            <p:cNvPr id="82" name=""/>
            <p:cNvSpPr/>
            <p:nvPr/>
          </p:nvSpPr>
          <p:spPr>
            <a:xfrm>
              <a:off x="1449000" y="16002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82360" y="4343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should MODs represent orthology, similarity, paralogy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0004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40"/>
                </a:solidFill>
                <a:latin typeface="Arial"/>
              </a:rPr>
              <a:t>Each tub on its own bottom - do your own 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+ Encourages crea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-  No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0004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40"/>
                </a:solidFill>
                <a:latin typeface="Arial"/>
              </a:rPr>
              <a:t>Pool resources -  compute common set of simila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+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-  Some MOD group has to run the comp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-  Stalin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0004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40"/>
                </a:solidFill>
                <a:latin typeface="Arial"/>
              </a:rPr>
              <a:t>Ask multiple groups to periodically compute orthology relationships according to their own criteria on the latest snapshots of our gene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+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+ No attempt to annoint the “best”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+ Can blame other groups who are doing the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-  Limited by the approaches of outside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do we proceed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40"/>
                </a:solidFill>
                <a:latin typeface="Arial"/>
              </a:rPr>
              <a:t>Supposing we adopt approaches 2 o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What data set do we provi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800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40"/>
                </a:solidFill>
                <a:latin typeface="Arial"/>
              </a:rPr>
              <a:t>All final transcripts and protei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800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40"/>
                </a:solidFill>
                <a:latin typeface="Arial"/>
              </a:rPr>
              <a:t>Proteins onl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800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40"/>
                </a:solidFill>
                <a:latin typeface="Arial"/>
              </a:rPr>
              <a:t>All proteins or one per “gene”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Do we only represent best hits?  Gene families?  Oth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How do we create robust reciprocal link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Which genomes do we compa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How often do we recompute orthologies/similariti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How do we keep all this in sync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3:29:29Z</dcterms:created>
  <dc:creator>William M. Gelbart</dc:creator>
  <dc:description/>
  <dc:language>en-US</dc:language>
  <cp:lastModifiedBy>William M. Gelbart</cp:lastModifiedBy>
  <dcterms:modified xsi:type="dcterms:W3CDTF">2004-04-28T14:15:21Z</dcterms:modified>
  <cp:revision>38</cp:revision>
  <dc:subject/>
  <dc:title>PowerPoint Presentation</dc:title>
</cp:coreProperties>
</file>